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85F-601E-4078-970C-E8A65847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2BB-B527-444E-9E88-E004339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8F6-B58C-4E01-B526-C5AFB75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3A8-4FB1-4E30-9A6C-53468C92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1C9-7F58-4407-82FF-F3267EE1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0F1-D023-41EC-9E31-4B72D936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6C8-C0C6-4C49-8130-F581343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E44-BBFD-4C5E-90DE-82B7879B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025-F2FA-4167-A34C-CB7BE672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AD3-D70B-46BC-B1D5-417AF61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E9C-574B-484D-A15E-3CC0D16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ACF-C86F-4350-B660-F047C2C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6C91-FB82-4172-80C0-6ACAC7B8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0b9"/>
                </a:solidFill>
                <a:latin typeface="Tempus Sans ITC"/>
              </a:rPr>
              <a:t>SAVING THE ORANGUT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33520" y="2514600"/>
            <a:ext cx="3836880" cy="402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789440" y="2514600"/>
            <a:ext cx="3888000" cy="40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68580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71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471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336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empus Sans IT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Brief Information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066680"/>
          <a:ext cx="8763120" cy="5638680"/>
        </p:xfrm>
        <a:graphic>
          <a:graphicData uri="http://schemas.openxmlformats.org/drawingml/2006/table">
            <a:tbl>
              <a:tblPr/>
              <a:tblGrid>
                <a:gridCol w="2596680"/>
                <a:gridCol w="3318120"/>
                <a:gridCol w="284832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Know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Don’t Kn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cc99"/>
                          </a:solidFill>
                          <a:latin typeface="Tempus Sans ITC"/>
                        </a:rPr>
                        <a:t>Idea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armers burn down/log down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y does Indonesia Government refuse help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Orangutans get harmed in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at Solutions have been already implemen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ood Web Destroyed and Habitat 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o are the parties involv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Mai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verty and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wood (Log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Palm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Metals such as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nd Management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w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Solutions – Logging, Demand For Wood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8288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79712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51055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olutions-Demand for Palm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olutions – Law Enforc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86600" y="5181480"/>
            <a:ext cx="1781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olutions -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156280"/>
            <a:ext cx="1523880" cy="1361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34320" y="5227560"/>
            <a:ext cx="20206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Save the Orangutans from Exti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orangutan"/>
          <p:cNvPicPr/>
          <p:nvPr/>
        </p:nvPicPr>
        <p:blipFill>
          <a:blip r:embed="rId1"/>
          <a:srcRect l="0" t="0" r="16666" b="0"/>
          <a:stretch/>
        </p:blipFill>
        <p:spPr>
          <a:xfrm>
            <a:off x="0" y="288936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6:16:49Z</dcterms:created>
  <dc:creator>Rohith</dc:creator>
  <dc:description/>
  <dc:language>en-US</dc:language>
  <cp:lastModifiedBy>kumar</cp:lastModifiedBy>
  <dcterms:modified xsi:type="dcterms:W3CDTF">2011-09-11T12:12:21Z</dcterms:modified>
  <cp:revision>6</cp:revision>
  <dc:subject/>
  <dc:title>Slide 1</dc:title>
</cp:coreProperties>
</file>